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1EC7-070A-4811-A7F7-1E3040D813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9CAE-4011-435F-94BC-0DE48A5327A6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FC1-4281-428A-8EE8-2183768F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CDF-14D4-4ED7-9C67-47BEA0EC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055-F761-467C-A98B-4F04896E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C00-7B92-4A63-A084-7F6D16DA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2BDD-D11A-4585-B413-B436E904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0C9E-4404-4D6E-8552-DA751C9F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642C-FBCD-4B70-9DB6-698F7136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5547-7A40-4FD7-B966-A8327BCD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9F17-C163-482A-8120-D429AD93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1DA4-3A22-4544-BD5E-FA0E0535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93B3-CCB2-4A2C-BE58-41B5194B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4FA7-6FEE-44F3-926E-87C61AFB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4408-F1E4-4C34-A0DE-1E610971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F3C5-2315-4A3F-A7A7-6955B35A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A42A-6827-4CEE-9858-245515F0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9F73-97D6-4C88-B489-EB05373D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3957-A19C-4DE6-851E-7B2F4874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2ED19-43D6-4A6B-A36A-F906BD86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15E01-8280-40F0-BC54-FD9D1B08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0D213-414B-47C1-9143-097266D7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7047-B5A0-45C7-BE78-BF1E8404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E8D27-BBDA-4438-8C14-64E4C5BA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EDF-0497-4390-A95F-894EAB95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17FE0-DCFA-4DA2-BE25-B6BCF8E5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5B82C-B491-4F17-BFCE-218D0ED4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848D5-AF60-4194-9E25-B76F1A32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5A28D-0309-4FE1-AFA0-BD109C62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A4920-F850-4CCD-AE96-2C474865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2C158-E33A-45F3-A3A2-104073B4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BFF9E-5F68-4799-9FF7-AD4F802C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61284-D390-43A3-98FB-496807AA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33091-8ABF-4E3B-A57D-734FA1F3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BD55E-071C-4AF0-9C79-BC74D1F5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721-0D9F-4481-AC32-A3D3CBDE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4C412-B021-4D97-A578-990233B0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56C61-C31F-401C-A22F-B96096D2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625BB-155F-453A-A585-1E00857C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89E2B-1D26-48BB-9D37-D12004F7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10296-EF6A-4FA5-BB8D-31C081F5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AFE6B-D307-4571-AAFC-FEAD4849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1AD53-4477-4619-B589-DDABC85E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F997D-B099-4A15-9924-93561D35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6059A-415B-44F6-9E55-BA42ABC5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61817-E271-4E6E-B622-7E200240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E15-56AC-4FF7-95B9-1A0D8F42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2CD1A-A3E8-4FB0-85C1-8345CB55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A116D-F567-4313-85CA-282ED92A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2A6E1-D897-4623-BEC3-11FA2DB6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F5A26-32AC-4A24-8507-6598BD63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80B05-80AE-446B-92E4-4C4A950C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3C716-6E9E-4679-837A-8A3252B0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86A53-D82F-40E3-9319-0A2FD0FD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4D38D-9B87-4CF5-8CED-1FD19700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42E44-84B9-4AA0-8414-B46E927B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381CB-3326-4750-A515-6CB381D5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55D-0453-44C3-8335-EC92ACE7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D5835-51AC-455A-B4D6-AD3CCB07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DFADF-90C2-4CDF-919D-D4B2F69C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89B6C-700F-4915-BF06-56FA2E22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64667-2648-4187-8319-BD982284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A94FF-450A-4B8A-8F57-FF7C03F8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335FF-5A0E-4550-B28E-717EB0E6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039D0-24AE-4E7D-831C-6F784A16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4A9DF-1173-4484-A93A-E7E80D63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B3188-7313-4A01-8865-93819995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A3F96-B8FB-40D6-9632-2E0BB908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DD30-3103-4ABA-A6C4-35C10300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1ED88-E43F-4B8D-8975-DB297618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61A5F-989E-4B31-B2D1-44D1B69B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D5A64-85FF-4025-A829-41DCAC19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50C2-CA23-47AF-8210-D86AA38E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6A5-870C-438A-A37E-AB53008C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B4A6-A30A-40F6-91CF-6F4EBB8F56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8AB2-6B9A-466C-B0AF-75A2D5552A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4FF1-0444-4AE6-B5B3-2854E46378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238D-91C3-4038-AD8C-10BC4F6906F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D990-47F2-456E-A4CC-66B0E026D89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4F9A-0BDC-42B7-93E0-B5B16C0D6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lib.rus.ec/b/106519/read" TargetMode="External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983.edusite.ru/p123aa1.html" TargetMode="External"/><Relationship Id="rId3" Type="http://schemas.openxmlformats.org/officeDocument/2006/relationships/hyperlink" Target="http://sch983.edusite.ru/p123aa1.html" TargetMode="External"/><Relationship Id="rId4" Type="http://schemas.openxmlformats.org/officeDocument/2006/relationships/hyperlink" Target="http://clck.yandex.ru/" TargetMode="External"/><Relationship Id="rId5" Type="http://schemas.openxmlformats.org/officeDocument/2006/relationships/hyperlink" Target="http://clck.yandex.ru/" TargetMode="External"/><Relationship Id="rId6" Type="http://schemas.openxmlformats.org/officeDocument/2006/relationships/hyperlink" Target="http://clck.yandex.ru/" TargetMode="External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2" descr=""/>
          <p:cNvPicPr/>
          <p:nvPr/>
        </p:nvPicPr>
        <p:blipFill>
          <a:blip r:embed="rId2"/>
          <a:stretch/>
        </p:blipFill>
        <p:spPr>
          <a:xfrm>
            <a:off x="603360" y="298440"/>
            <a:ext cx="7785000" cy="1749600"/>
          </a:xfrm>
          <a:prstGeom prst="rect">
            <a:avLst/>
          </a:prstGeom>
          <a:ln w="0">
            <a:noFill/>
          </a:ln>
        </p:spPr>
      </p:pic>
      <p:pic>
        <p:nvPicPr>
          <p:cNvPr id="261" name="Rectangle 3" descr=""/>
          <p:cNvPicPr/>
          <p:nvPr/>
        </p:nvPicPr>
        <p:blipFill>
          <a:blip r:embed="rId3"/>
          <a:stretch/>
        </p:blipFill>
        <p:spPr>
          <a:xfrm>
            <a:off x="4187880" y="3475080"/>
            <a:ext cx="4687920" cy="18651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3733920" y="6248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3" name="Прямоугольник 7" descr=""/>
          <p:cNvPicPr/>
          <p:nvPr/>
        </p:nvPicPr>
        <p:blipFill>
          <a:blip r:embed="rId4"/>
          <a:stretch/>
        </p:blipFill>
        <p:spPr>
          <a:xfrm>
            <a:off x="1219320" y="914400"/>
            <a:ext cx="6778440" cy="1504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560080" cy="1993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222516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ученики 5 класс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Предмет: русский язык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Программа: Разумовская М. М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835200" y="530280"/>
            <a:ext cx="7785000" cy="1743120"/>
          </a:xfrm>
          <a:prstGeom prst="rect">
            <a:avLst/>
          </a:prstGeom>
          <a:ln w="0">
            <a:noFill/>
          </a:ln>
        </p:spPr>
      </p:pic>
      <p:pic>
        <p:nvPicPr>
          <p:cNvPr id="267" name="Rectangle 8" descr=""/>
          <p:cNvPicPr/>
          <p:nvPr/>
        </p:nvPicPr>
        <p:blipFill>
          <a:blip r:embed="rId2"/>
          <a:stretch/>
        </p:blipFill>
        <p:spPr>
          <a:xfrm>
            <a:off x="208080" y="2944800"/>
            <a:ext cx="8796240" cy="193824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5" descr=""/>
          <p:cNvPicPr/>
          <p:nvPr/>
        </p:nvPicPr>
        <p:blipFill>
          <a:blip r:embed="rId3"/>
          <a:stretch/>
        </p:blipFill>
        <p:spPr>
          <a:xfrm>
            <a:off x="225360" y="360360"/>
            <a:ext cx="8620200" cy="193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0" lang="en-US" sz="37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ипы</a:t>
            </a:r>
            <a:r>
              <a:rPr b="0" lang="en-US" sz="3700" spc="-1" strike="noStrike" u="sng">
                <a:solidFill>
                  <a:srgbClr val="000000"/>
                </a:solidFill>
                <a:uFillTx/>
                <a:latin typeface="Arial"/>
              </a:rPr>
              <a:t> речи бывают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Что такое рассуждение, повествование, описание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Как соединяются разные типы речи в одном тексте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242200" cy="1663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Развитие устной и письменной речи учащихся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Формирование знаний о типах реч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9,0,-28)"/>
                                      </p:to>
                                    </p:set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9,0,-28)"/>
                                      </p:to>
                                    </p:se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Научиться правильно говорить и излагать свои мысли на письм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Научиться определять типы речи и их соединение в одном текст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835200" y="158760"/>
            <a:ext cx="8540640" cy="1554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ч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н-газ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л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j0299125"/>
          <p:cNvPicPr/>
          <p:nvPr/>
        </p:nvPicPr>
        <p:blipFill>
          <a:blip r:embed="rId2"/>
          <a:stretch/>
        </p:blipFill>
        <p:spPr>
          <a:xfrm>
            <a:off x="6638760" y="822240"/>
            <a:ext cx="2151360" cy="3487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16130880" cy="14079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1 урок- вводный (1ч.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2 урок- Тип речи- повествование (1ч.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3 урок- Тип речи- рассуждение (1ч.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4 урок- Тип речи- описание (1ч.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5 урок- Представление результатов исследования (1ч.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2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693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Учебник русского языка для 5 кл., Разумовская М. М., М., 200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Русский язык. Изучение речеведческих понятий, Фешина Н. И., Волгоград, 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sch983.edusite.ru/p123aa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lck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rusjaz.blogi.by/2009/02/18/tipy-rech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21T05:05:12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